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20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12.jpeg" ContentType="image/jpeg"/>
  <Override PartName="/ppt/media/image34.png" ContentType="image/png"/>
  <Override PartName="/ppt/media/image8.png" ContentType="image/png"/>
  <Override PartName="/ppt/media/image14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8551-E07B-4410-A34A-5153A5CA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709-3227-4251-A38C-903D1AC2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704-D20D-4028-AB16-88D7C1AF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8A2-DDAE-4E93-9DD8-7AE5E5F2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177B-548B-4CE4-9DE8-4E1D432C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6D6C-AA0E-4DAD-AD96-58DF1E15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D430-91CA-472F-97AE-927B1D51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4824-DBF7-4C46-B12C-9292951C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B12F-BCDB-4F5C-BC16-3C02269C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49BC-6C39-4200-82B4-88409219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1FCA-E3C3-4323-A28A-629CCFE2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75E-A49C-4F7F-8C5A-C8708379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1ACD-EB15-467A-89B5-FF8A3116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FD80-F6F6-4DF2-A29F-4FEF7CFE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5ABE-0CD5-45E2-9572-4D173236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A55E-0173-42F6-A47B-9FE6204E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383A-6773-4D16-9D50-CBF31DB6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B4CCF-20D5-4E2A-AFCB-CF90BCC3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F2CF8-A888-4314-B959-20FE8D1C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56C5B-A8FE-41BF-86A0-D0CC32B1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CDE2F-074C-4EFC-B761-DC3A156E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F03E2-0F5E-4205-968E-EBF84FF9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AB1-2240-4EAB-B2A1-C7E7B495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6F83D-0B18-47C4-AFC2-15B8563F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CAE09-0752-4F51-8CD2-1B47F414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0F00A-D800-4A80-B3F4-55491808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40024-8F4D-482B-947C-64B23C8B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BBE56-9980-4A94-A758-FA511B8A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D1E39-A977-4EB3-81B6-E85D3149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C6A06-1288-4292-9F43-ACD4BD6B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D8410-6DBF-42B8-9157-0688EC9F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0322E-7FC1-4812-B19E-D70F625A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3536C-F533-4960-9FE7-315E1304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8A3-5AB1-47BE-BD48-1B17E199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FF0D5-E68F-4AAA-9798-E4ED9F5C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8C495-018A-48E2-9BA9-E43E5AB6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7488E-3D81-462D-BA2F-D732E103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8FBCC-93C2-4329-90D2-8575FCE9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220B3-E562-4479-BBF2-51AA98D4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4526F-4B89-4FDC-98E1-EA5721C9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25843-803D-4598-B3EA-A9C12296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B2BE3-7E50-4D8C-B1D5-4419CACA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4AB0D-5985-4F2C-889D-1026683D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821DF-BC2F-4805-B988-C0F2A7CF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A8E7-03E0-43DE-A140-6FEBED1F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C2F0A-0A05-4C14-B9C0-FDA220E9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7004F-499F-4FA4-B956-57CF9E3D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75297-010D-43AC-9F3A-442165EA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388BD-1F06-47C9-A2C7-04640CA7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6985B-E1BA-4F62-8A3E-88AAE7A4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6BC62-410B-4856-9B2C-1FA01938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4E584-7CD4-4B9B-B9A3-2F89BE13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E5CA2-D75B-41B2-B8E6-95926EA2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E37F0-F701-4593-9DCB-48D2DDE6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11ED9-B585-4772-A556-EFEE139F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6E7-AA25-4F9F-A2CA-BFC00746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3D682-C7DD-4D02-B504-114BCAFF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292BF-4E9E-4626-92B7-00A9ED80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1B080-72D0-4C85-B80F-DDAF9518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5C262-5D54-48C1-BC96-A0F52801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7DB39-6D18-4221-855C-E9FE6836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88050-400E-4BF4-B32A-8277BC33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184A7-132A-4374-999A-7A550217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06FE6-2561-4230-B520-B2A787F3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DA48C-740F-48AE-89D1-A6B20B4C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3091D-A3F7-4195-9473-BCA728AB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B1B-0D5D-46D2-9FD0-CDB395A3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07D61-4671-4B67-A70D-E6E5387D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4665C-D6B1-4AEF-83AE-DC5548A8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763CD-28A3-4BE2-93E3-ACF833B2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F8209-7EDF-4080-85C6-D416795E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B29BA-604C-4FFD-A712-EDAD6B95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38B4B-C63E-45BB-B1D7-AD95556A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0330E-FC89-48E5-8DB0-115B3285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AE6BA-132F-4EA1-AD90-41684A67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F073F-2801-4C4E-8D02-D4CE4F3A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7C1D5-A14B-4B31-969E-C829ACE1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7FA0-78F3-4479-BD14-120263CC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9D611-9750-4D60-A7E3-D775A81A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59C36-FE3F-4C80-9490-B71152BC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89B52-B465-44C2-9978-8949BA60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6CE6F-8479-4630-9ABD-C8F1CFC5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F3D24-0590-4348-8071-59E74CE0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50E-9ED2-4B3D-B02F-2ABD4761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91A8-1C28-432D-8C6F-971A37FD615B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CC90-574C-4063-AD19-C3A74542FD14}" type="slidenum"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6787-BC05-4FE7-9DCC-6A67C1F0E3B6}" type="slidenum">
              <a:rPr b="0" lang="ro-R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BDB6-ED17-4967-9921-5127D9C9CC24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BACF-684E-4CEA-B8A7-ACF765AAFBD7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F18E-CF54-49E0-9E02-17E0D4ED6F0E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7E93-6602-4D8F-B2C2-12147A15EBD7}" type="slidenum">
              <a:rPr b="0" lang="ro-R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pn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401760" y="378000"/>
            <a:ext cx="8523000" cy="190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33160" y="4114800"/>
            <a:ext cx="28954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00"/>
                </a:solidFill>
                <a:latin typeface="Monotype Corsiva"/>
              </a:rPr>
              <a:t>FRANCE2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7" name="Picture 4" descr="C:\Users\Adi\Desktop\FRANCE2-Equipe2\logo-france2.jpg"/>
          <p:cNvPicPr/>
          <p:nvPr/>
        </p:nvPicPr>
        <p:blipFill>
          <a:blip r:embed="rId2"/>
          <a:stretch/>
        </p:blipFill>
        <p:spPr>
          <a:xfrm>
            <a:off x="4952880" y="2743200"/>
            <a:ext cx="39369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 u="sng">
                <a:solidFill>
                  <a:srgbClr val="000000"/>
                </a:solidFill>
                <a:uFillTx/>
                <a:latin typeface="Calibri"/>
              </a:rPr>
              <a:t>Program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Documetai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Series et fi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Divertiss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Jeu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Spo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0000"/>
                </a:solidFill>
                <a:latin typeface="Constantia"/>
              </a:rPr>
              <a:t>Animate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0" name="Picture 4" descr="C:\Users\Adi\Desktop\FRANCE2-Equipe2\documentaire.jpg"/>
          <p:cNvPicPr/>
          <p:nvPr/>
        </p:nvPicPr>
        <p:blipFill>
          <a:blip r:embed="rId1"/>
          <a:stretch/>
        </p:blipFill>
        <p:spPr>
          <a:xfrm>
            <a:off x="3882960" y="755640"/>
            <a:ext cx="2541600" cy="18223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Users\Adi\Desktop\FRANCE2-Equipe2\TVD.jpg"/>
          <p:cNvPicPr/>
          <p:nvPr/>
        </p:nvPicPr>
        <p:blipFill>
          <a:blip r:embed="rId2"/>
          <a:stretch/>
        </p:blipFill>
        <p:spPr>
          <a:xfrm>
            <a:off x="3956040" y="4413240"/>
            <a:ext cx="5200560" cy="2457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C:\Users\Adi\Desktop\FRANCE2-Equipe2\jeux.jpg"/>
          <p:cNvPicPr/>
          <p:nvPr/>
        </p:nvPicPr>
        <p:blipFill>
          <a:blip r:embed="rId3"/>
          <a:stretch/>
        </p:blipFill>
        <p:spPr>
          <a:xfrm>
            <a:off x="-85680" y="4834080"/>
            <a:ext cx="3822480" cy="2341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C:\Users\Adi\Desktop\FRANCE2-Equipe2\sport.jpg"/>
          <p:cNvPicPr/>
          <p:nvPr/>
        </p:nvPicPr>
        <p:blipFill>
          <a:blip r:embed="rId4"/>
          <a:stretch/>
        </p:blipFill>
        <p:spPr>
          <a:xfrm>
            <a:off x="3882960" y="2584440"/>
            <a:ext cx="2627280" cy="1841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C:\Users\Adi\Desktop\FRANCE2-Equipe2\animateur.jpg"/>
          <p:cNvPicPr/>
          <p:nvPr/>
        </p:nvPicPr>
        <p:blipFill>
          <a:blip r:embed="rId5"/>
          <a:stretch/>
        </p:blipFill>
        <p:spPr>
          <a:xfrm>
            <a:off x="6400800" y="762120"/>
            <a:ext cx="2743200" cy="3733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0000"/>
                </a:solidFill>
                <a:latin typeface="Calibri"/>
              </a:rPr>
              <a:t>Culture-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&gt;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Kanye West rend visite à Occupy Wall Street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20680" indent="-2206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Monotype Corsiva"/>
              </a:rPr>
              <a:t>Le rappeur américain a fait une brève apparition lundi 10 octobre auprès des indignés américain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9" name="Picture 6" descr="C:\Users\Adi\Desktop\FRANCE2-Equipe2\paris mode.jpg"/>
          <p:cNvPicPr/>
          <p:nvPr/>
        </p:nvPicPr>
        <p:blipFill>
          <a:blip r:embed="rId1"/>
          <a:stretch/>
        </p:blipFill>
        <p:spPr>
          <a:xfrm>
            <a:off x="4572000" y="91440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C:\Users\Adi\Desktop\FRANCE2-Equipe2\christian dior.jpg"/>
          <p:cNvPicPr/>
          <p:nvPr/>
        </p:nvPicPr>
        <p:blipFill>
          <a:blip r:embed="rId2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4617b"/>
                </a:solidFill>
                <a:uFillTx/>
                <a:latin typeface="Monotype Corsiva"/>
              </a:rPr>
              <a:t>Informations  general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8769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Monotype Corsiva"/>
              </a:rPr>
              <a:t>Kanye West est apparu en compagnie de Russell Simmons sur Zuccotti Park, au sud de Manhattan, où des centaines de personnes manifestent pacifiquement depuis plusieurs sema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Monotype Corsiva"/>
              </a:rPr>
              <a:t>West, jetsetteur, fana de mode et amateur de grosses chaînes en or, d'apporter son soutien aux manifestants du mouvement contre la finance débridé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4" name="Picture 5" descr="C:\Users\Adi\Desktop\FRANCE2-Equipe2\wall st.jpg"/>
          <p:cNvPicPr/>
          <p:nvPr/>
        </p:nvPicPr>
        <p:blipFill>
          <a:blip r:embed="rId1"/>
          <a:stretch/>
        </p:blipFill>
        <p:spPr>
          <a:xfrm>
            <a:off x="152280" y="1600200"/>
            <a:ext cx="4648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o-RO" sz="4000" spc="-1" strike="noStrike">
                <a:solidFill>
                  <a:srgbClr val="f0aafc"/>
                </a:solidFill>
                <a:latin typeface="Calibri"/>
              </a:rPr>
              <a:t>O</a:t>
            </a:r>
            <a:r>
              <a:rPr b="0" lang="ro-RO" sz="4000" spc="-1" strike="noStrike">
                <a:solidFill>
                  <a:srgbClr val="04617b"/>
                </a:solidFill>
                <a:latin typeface="Calibri"/>
              </a:rPr>
              <a:t>M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ro-RO" sz="4000" spc="-1" strike="noStrike">
                <a:solidFill>
                  <a:srgbClr val="ffff00"/>
                </a:solidFill>
                <a:latin typeface="Calibri"/>
              </a:rPr>
              <a:t>N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o-RO" sz="4000" spc="-1" strike="noStrike">
                <a:solidFill>
                  <a:srgbClr val="7cca62"/>
                </a:solidFill>
                <a:latin typeface="Calibri"/>
              </a:rPr>
              <a:t>A</a:t>
            </a:r>
            <a:r>
              <a:rPr b="0" lang="ro-RO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bfbfbf"/>
                </a:solidFill>
                <a:latin typeface="Calibri"/>
              </a:rPr>
              <a:t>V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o-RO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o-RO" sz="4000" spc="-1" strike="noStrike">
                <a:solidFill>
                  <a:srgbClr val="ffff00"/>
                </a:solidFill>
                <a:latin typeface="Calibri"/>
              </a:rPr>
              <a:t>I</a:t>
            </a:r>
            <a:r>
              <a:rPr b="0" lang="ro-RO" sz="4000" spc="-1" strike="noStrike">
                <a:solidFill>
                  <a:srgbClr val="04617b"/>
                </a:solidFill>
                <a:latin typeface="Calibri"/>
              </a:rPr>
              <a:t>E</a:t>
            </a: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ro-RO" sz="4000" spc="-1" strike="noStrike">
                <a:solidFill>
                  <a:srgbClr val="7cca62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ro-RO" sz="2800" spc="-1" strike="noStrike">
                <a:solidFill>
                  <a:srgbClr val="ff0000"/>
                </a:solidFill>
                <a:latin typeface="Constantia"/>
              </a:rPr>
              <a:t>La mod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ro-RO" sz="2800" spc="-1" strike="noStrike">
                <a:solidFill>
                  <a:srgbClr val="ff0000"/>
                </a:solidFill>
                <a:latin typeface="Constantia"/>
              </a:rPr>
              <a:t>Le corp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ro-RO" sz="2800" spc="-1" strike="noStrike">
                <a:solidFill>
                  <a:srgbClr val="ff0000"/>
                </a:solidFill>
                <a:latin typeface="Constantia"/>
              </a:rPr>
              <a:t>Le quotidi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ro-RO" sz="2800" spc="-1" strike="noStrike">
                <a:solidFill>
                  <a:srgbClr val="ff0000"/>
                </a:solidFill>
                <a:latin typeface="Constantia"/>
              </a:rPr>
              <a:t>Le mais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ro-RO" sz="2800" spc="-1" strike="noStrike">
                <a:solidFill>
                  <a:srgbClr val="ff0000"/>
                </a:solidFill>
                <a:latin typeface="Constantia"/>
              </a:rPr>
              <a:t>Les loisi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8" name="Picture 5" descr="C:\Users\Adi\Desktop\FRANCE2-Equipe2\ok ok.jpg"/>
          <p:cNvPicPr/>
          <p:nvPr/>
        </p:nvPicPr>
        <p:blipFill>
          <a:blip r:embed="rId1"/>
          <a:stretch/>
        </p:blipFill>
        <p:spPr>
          <a:xfrm>
            <a:off x="152280" y="4114800"/>
            <a:ext cx="3124440" cy="25909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69" name="Picture 8" descr="C:\Users\Adi\Desktop\FRANCE2-Equipe2\comment ce va bien.jpg"/>
          <p:cNvPicPr/>
          <p:nvPr/>
        </p:nvPicPr>
        <p:blipFill>
          <a:blip r:embed="rId2"/>
          <a:stretch/>
        </p:blipFill>
        <p:spPr>
          <a:xfrm>
            <a:off x="5867280" y="1143000"/>
            <a:ext cx="3276720" cy="5715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C:\Users\Adi\Desktop\FRANCE2-Equipe2\arton.jpg"/>
          <p:cNvPicPr/>
          <p:nvPr/>
        </p:nvPicPr>
        <p:blipFill>
          <a:blip r:embed="rId3"/>
          <a:stretch/>
        </p:blipFill>
        <p:spPr>
          <a:xfrm>
            <a:off x="3962520" y="4114800"/>
            <a:ext cx="2533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ab0c6"/>
                </a:solidFill>
                <a:uFillTx/>
                <a:latin typeface="Calibri"/>
              </a:rPr>
              <a:t>Les glaciers pyrénéens fondent à vue d'oeil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7030a0"/>
                </a:solidFill>
                <a:latin typeface="Constantia"/>
              </a:rPr>
              <a:t>Dans le article il se parle sur le glaciers de Mountage p</a:t>
            </a:r>
            <a:r>
              <a:rPr b="1" lang="fr-FR" sz="2800" spc="-1" strike="noStrike">
                <a:solidFill>
                  <a:srgbClr val="7030a0"/>
                </a:solidFill>
                <a:latin typeface="Constantia"/>
              </a:rPr>
              <a:t>yrénéens </a:t>
            </a:r>
            <a:r>
              <a:rPr b="1" lang="ro-RO" sz="2800" spc="-1" strike="noStrike">
                <a:solidFill>
                  <a:srgbClr val="7030a0"/>
                </a:solidFill>
                <a:latin typeface="Constantia"/>
              </a:rPr>
              <a:t> qui fondent  a cause de </a:t>
            </a:r>
            <a:r>
              <a:rPr b="0" lang="ro-RO" sz="2800" spc="-1" strike="noStrike">
                <a:solidFill>
                  <a:srgbClr val="7030a0"/>
                </a:solidFill>
                <a:latin typeface="Constantia"/>
              </a:rPr>
              <a:t>réchauffement climatique .Les glaciers ont perdu 80%  de leur surface.Pierre Rene voit leur disaparation dans les decennies a veni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4" name="Picture 5" descr="C:\Users\Adi\Desktop\FRANCE2-Equipe2\image_70661067.jpg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De ce postul tv respectiv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0000"/>
                </a:solidFill>
                <a:latin typeface="Monotype Corsiva"/>
              </a:rPr>
              <a:t>Pour les eleves,un post TV est importante pour leur lecture.Ils peut apprendre de lire et de parler </a:t>
            </a:r>
            <a:r>
              <a:rPr b="0" i="1" lang="ro-RO" sz="4400" spc="-1" strike="noStrike">
                <a:solidFill>
                  <a:srgbClr val="ff0000"/>
                </a:solidFill>
                <a:latin typeface="Monotype Corsiva"/>
              </a:rPr>
              <a:t>plustot </a:t>
            </a:r>
            <a:r>
              <a:rPr b="0" lang="ro-RO" sz="4400" spc="-1" strike="noStrike">
                <a:solidFill>
                  <a:srgbClr val="ff0000"/>
                </a:solidFill>
                <a:latin typeface="Monotype Corsiva"/>
              </a:rPr>
              <a:t>Francais.Un post TV informe la population avec vrai nouvelles..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0000"/>
                </a:solidFill>
                <a:latin typeface="Monotype Corsiva"/>
              </a:rPr>
              <a:t>France en miniature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:\Users\Adi\Desktop\FRANCE2-Equipe2\vin.jpg"/>
          <p:cNvPicPr/>
          <p:nvPr/>
        </p:nvPicPr>
        <p:blipFill>
          <a:blip r:embed="rId2"/>
          <a:stretch/>
        </p:blipFill>
        <p:spPr>
          <a:xfrm>
            <a:off x="7126200" y="-6480"/>
            <a:ext cx="2024280" cy="2286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C:\Users\Adi\Desktop\FRANCE2-Equipe2\mont blanc.jpg"/>
          <p:cNvPicPr/>
          <p:nvPr/>
        </p:nvPicPr>
        <p:blipFill>
          <a:blip r:embed="rId3"/>
          <a:stretch/>
        </p:blipFill>
        <p:spPr>
          <a:xfrm>
            <a:off x="7400880" y="3733920"/>
            <a:ext cx="1743120" cy="3124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81" name="Picture 4" descr="C:\Users\Adi\Desktop\FRANCE2-Equipe2\jjlkj.jpg"/>
          <p:cNvPicPr/>
          <p:nvPr/>
        </p:nvPicPr>
        <p:blipFill>
          <a:blip r:embed="rId4"/>
          <a:stretch/>
        </p:blipFill>
        <p:spPr>
          <a:xfrm>
            <a:off x="1752480" y="5029200"/>
            <a:ext cx="2743200" cy="1828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82" name="Picture 5" descr="C:\Users\Adi\Desktop\FRANCE2-Equipe2\jhp.jpg"/>
          <p:cNvPicPr/>
          <p:nvPr/>
        </p:nvPicPr>
        <p:blipFill>
          <a:blip r:embed="rId5"/>
          <a:stretch/>
        </p:blipFill>
        <p:spPr>
          <a:xfrm>
            <a:off x="0" y="4497480"/>
            <a:ext cx="1981080" cy="2360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83" name="Picture 6" descr="C:\Users\Adi\Desktop\FRANCE2-Equipe2\index.jpg"/>
          <p:cNvPicPr/>
          <p:nvPr/>
        </p:nvPicPr>
        <p:blipFill>
          <a:blip r:embed="rId6"/>
          <a:stretch/>
        </p:blipFill>
        <p:spPr>
          <a:xfrm>
            <a:off x="0" y="1600200"/>
            <a:ext cx="2467080" cy="1847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84" name="Picture 7" descr="C:\Users\Adi\Desktop\FRANCE2-Equipe2\ihjroe'.jpg"/>
          <p:cNvPicPr/>
          <p:nvPr/>
        </p:nvPicPr>
        <p:blipFill>
          <a:blip r:embed="rId7"/>
          <a:stretch/>
        </p:blipFill>
        <p:spPr>
          <a:xfrm>
            <a:off x="4572000" y="5295960"/>
            <a:ext cx="2819520" cy="1562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85" name="Picture 8" descr="C:\Users\Adi\Desktop\FRANCE2-Equipe2\harte.jpg"/>
          <p:cNvPicPr/>
          <p:nvPr/>
        </p:nvPicPr>
        <p:blipFill>
          <a:blip r:embed="rId8"/>
          <a:stretch/>
        </p:blipFill>
        <p:spPr>
          <a:xfrm>
            <a:off x="1447920" y="3429000"/>
            <a:ext cx="1711080" cy="167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86" name="Picture 9" descr="C:\Users\Adi\Desktop\FRANCE2-Equipe2\frnaceeee.jpg"/>
          <p:cNvPicPr/>
          <p:nvPr/>
        </p:nvPicPr>
        <p:blipFill>
          <a:blip r:embed="rId9"/>
          <a:stretch/>
        </p:blipFill>
        <p:spPr>
          <a:xfrm>
            <a:off x="3041640" y="3121200"/>
            <a:ext cx="1920960" cy="2219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C:\Users\Adi\Desktop\FRANCE2-Equipe2\Franta.jpg"/>
          <p:cNvPicPr/>
          <p:nvPr/>
        </p:nvPicPr>
        <p:blipFill>
          <a:blip r:embed="rId10"/>
          <a:stretch/>
        </p:blipFill>
        <p:spPr>
          <a:xfrm>
            <a:off x="6410160" y="1828800"/>
            <a:ext cx="2733840" cy="1819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88" name="Picture 11" descr="C:\Users\Adi\Desktop\FRANCE2-Equipe2\disneyland.jpg"/>
          <p:cNvPicPr/>
          <p:nvPr/>
        </p:nvPicPr>
        <p:blipFill>
          <a:blip r:embed="rId11"/>
          <a:stretch/>
        </p:blipFill>
        <p:spPr>
          <a:xfrm>
            <a:off x="2362320" y="1600200"/>
            <a:ext cx="2466720" cy="1847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89" name="Picture 12" descr="C:\Users\Adi\Desktop\FRANCE2-Equipe2\catredala.jpg"/>
          <p:cNvPicPr/>
          <p:nvPr/>
        </p:nvPicPr>
        <p:blipFill>
          <a:blip r:embed="rId12"/>
          <a:stretch/>
        </p:blipFill>
        <p:spPr>
          <a:xfrm>
            <a:off x="0" y="32004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3" descr="C:\Users\Adi\Desktop\FRANCE2-Equipe2\biblioteque nationale.jpg"/>
          <p:cNvPicPr/>
          <p:nvPr/>
        </p:nvPicPr>
        <p:blipFill>
          <a:blip r:embed="rId13"/>
          <a:stretch/>
        </p:blipFill>
        <p:spPr>
          <a:xfrm>
            <a:off x="4800600" y="1600200"/>
            <a:ext cx="1676520" cy="1819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91" name="Picture 14" descr="C:\Users\Adi\Desktop\FRANCE2-Equipe2\AIR FRANCE.jpg"/>
          <p:cNvPicPr/>
          <p:nvPr/>
        </p:nvPicPr>
        <p:blipFill>
          <a:blip r:embed="rId14"/>
          <a:stretch/>
        </p:blipFill>
        <p:spPr>
          <a:xfrm>
            <a:off x="4800600" y="3429000"/>
            <a:ext cx="2619360" cy="196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4617b"/>
                </a:solidFill>
                <a:latin typeface="Palace Script MT"/>
              </a:rPr>
              <a:t>    </a:t>
            </a:r>
            <a:r>
              <a:rPr b="1" lang="en-US" sz="9600" spc="-1" strike="noStrike">
                <a:solidFill>
                  <a:srgbClr val="04617b"/>
                </a:solidFill>
                <a:latin typeface="Palace Script MT"/>
              </a:rPr>
              <a:t>F</a:t>
            </a:r>
            <a:r>
              <a:rPr b="1" lang="en-US" sz="9600" spc="-1" strike="noStrike">
                <a:solidFill>
                  <a:srgbClr val="bfbfbf"/>
                </a:solidFill>
                <a:latin typeface="Palace Script MT"/>
              </a:rPr>
              <a:t>i</a:t>
            </a:r>
            <a:r>
              <a:rPr b="1" lang="en-US" sz="9600" spc="-1" strike="noStrike">
                <a:solidFill>
                  <a:srgbClr val="ff0000"/>
                </a:solidFill>
                <a:latin typeface="Palace Script MT"/>
              </a:rPr>
              <a:t>n...</a:t>
            </a:r>
            <a:r>
              <a:rPr b="1" lang="en-US" sz="9600" spc="-1" strike="noStrike">
                <a:solidFill>
                  <a:srgbClr val="04617b"/>
                </a:solidFill>
                <a:latin typeface="Palace Script MT"/>
              </a:rPr>
              <a:t> 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2438280"/>
            <a:ext cx="3352680" cy="335304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60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b5395"/>
                </a:solidFill>
                <a:latin typeface="Palace Script MT"/>
              </a:rPr>
              <a:t>Project</a:t>
            </a:r>
            <a:r>
              <a:rPr b="1" lang="en-US" sz="5400" spc="-1" strike="noStrike">
                <a:solidFill>
                  <a:srgbClr val="ff0000"/>
                </a:solidFill>
                <a:latin typeface="Palace Script MT"/>
              </a:rPr>
              <a:t>  </a:t>
            </a:r>
            <a:r>
              <a:rPr b="1" lang="en-US" sz="5400" spc="-1" strike="noStrike">
                <a:solidFill>
                  <a:srgbClr val="a6a6a6"/>
                </a:solidFill>
                <a:latin typeface="Palace Script MT"/>
              </a:rPr>
              <a:t>fait</a:t>
            </a:r>
            <a:r>
              <a:rPr b="1" lang="en-US" sz="5400" spc="-1" strike="noStrike">
                <a:solidFill>
                  <a:srgbClr val="ff0000"/>
                </a:solidFill>
                <a:latin typeface="Palace Script MT"/>
              </a:rPr>
              <a:t> de :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lace Script MT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Palace Script MT"/>
              </a:rPr>
              <a:t>* </a:t>
            </a:r>
            <a:r>
              <a:rPr b="1" lang="en-US" sz="5400" spc="-1" strike="noStrike">
                <a:solidFill>
                  <a:srgbClr val="00b0f0"/>
                </a:solidFill>
                <a:latin typeface="Palace Script MT"/>
              </a:rPr>
              <a:t>Chis Denisa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Palace Script MT"/>
              </a:rPr>
              <a:t>  </a:t>
            </a:r>
            <a:r>
              <a:rPr b="1" lang="en-US" sz="5400" spc="-1" strike="noStrike">
                <a:solidFill>
                  <a:srgbClr val="00b0f0"/>
                </a:solidFill>
                <a:latin typeface="Palace Script MT"/>
              </a:rPr>
              <a:t>*</a:t>
            </a:r>
            <a:r>
              <a:rPr b="1" lang="en-US" sz="5400" spc="-1" strike="noStrike">
                <a:solidFill>
                  <a:srgbClr val="a6a6a6"/>
                </a:solidFill>
                <a:latin typeface="Palace Script MT"/>
              </a:rPr>
              <a:t>Ciceuan Simina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6a6a6"/>
                </a:solidFill>
                <a:latin typeface="Palace Script MT"/>
              </a:rPr>
              <a:t>  </a:t>
            </a:r>
            <a:r>
              <a:rPr b="1" lang="en-US" sz="5400" spc="-1" strike="noStrike">
                <a:solidFill>
                  <a:srgbClr val="a6a6a6"/>
                </a:solidFill>
                <a:latin typeface="Palace Script MT"/>
              </a:rPr>
              <a:t>*</a:t>
            </a:r>
            <a:r>
              <a:rPr b="1" lang="en-US" sz="5400" spc="-1" strike="noStrike">
                <a:solidFill>
                  <a:srgbClr val="ff0000"/>
                </a:solidFill>
                <a:latin typeface="Palace Script MT"/>
              </a:rPr>
              <a:t>Balogh Andrea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4" name="Picture 3" descr="C:\Users\Adi\Desktop\FRANCE2-Equipe2\france2 eleves.jpg"/>
          <p:cNvPicPr/>
          <p:nvPr/>
        </p:nvPicPr>
        <p:blipFill>
          <a:blip r:embed="rId1"/>
          <a:stretch/>
        </p:blipFill>
        <p:spPr>
          <a:xfrm>
            <a:off x="3693960" y="590400"/>
            <a:ext cx="4956480" cy="4737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C:\Users\Adi\Desktop\FRANCE2-Equipe2\frnaceeee.jpg"/>
          <p:cNvPicPr/>
          <p:nvPr/>
        </p:nvPicPr>
        <p:blipFill>
          <a:blip r:embed="rId2"/>
          <a:stretch/>
        </p:blipFill>
        <p:spPr>
          <a:xfrm>
            <a:off x="0" y="0"/>
            <a:ext cx="12952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i</dc:creator>
  <dc:description/>
  <dc:language>en-US</dc:language>
  <cp:lastModifiedBy>Adi</cp:lastModifiedBy>
  <dcterms:modified xsi:type="dcterms:W3CDTF">2011-10-19T20:54:5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